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6ED-D4C3-4748-89B0-FB9A0854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AA6-0D45-4A35-AB69-297D5BBD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0A8-CBB9-4729-BDB3-5F0E0794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66E-3D25-4B6C-8518-EC80185E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402-764D-4D84-8524-9AC44E08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13B-E2A4-488E-B30B-15B66DF4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846-78E6-462D-B388-B296FB0C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5A8-2BF9-4642-8D5B-DDA8826A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D71-27E0-4CE6-A51E-F823A29D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386-549C-4802-85D8-C19C3499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0BEA-7E5C-4D08-BD04-C3BECE8A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39D-373D-4DC0-B63E-2635A1E2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1E82-93FE-4B29-B4FC-4F8ED3FF5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Brenda Ri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los Mor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kali Metals are all metals. Sodium, Lithium, Potassium, Rubidium, Cesium, Fran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only have 1 valence electron and are highly reactive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 are soap, fertilizer, and medicine, which can be found with other compounds. Alkali Metals are never found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Periodic Table of Elements Alkali Metals are found in Group1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 F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ium's valence electron is so loosely bound that simply shining a light on the metal will cause that electron to fly away, somewhat photovoltaic all by itself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erence in strength between sodium and potassium is enough to allow the heart to keep bea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5:13:38Z</dcterms:created>
  <dc:creator>tatumadmin</dc:creator>
  <dc:description/>
  <dc:language>en-US</dc:language>
  <cp:lastModifiedBy>tatumadmin</cp:lastModifiedBy>
  <dcterms:modified xsi:type="dcterms:W3CDTF">2009-12-04T15:09:02Z</dcterms:modified>
  <cp:revision>3</cp:revision>
  <dc:subject/>
  <dc:title>Transition Metals</dc:title>
</cp:coreProperties>
</file>